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33FD2-B563-418E-B0F7-9A47085949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364FB-677E-49BA-A693-BEE00E5F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B677B2-2834-4EC6-A1C5-1E971EDA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10A476-BC64-4649-897B-3FA7D5450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4C1DAF-89C7-4BBA-9A05-B65679D82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A2FD69-7E72-437B-A02A-BA095F57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75C560-7056-44DB-99B4-4D398A7D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02AC06-073F-4332-88EB-32797CF5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13D05E-E585-478F-932D-39316D0E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8CB076-22E2-4986-96E4-32BA1326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BB02B9-6A2D-45BC-A941-02E6D8FCF6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67833-5EDA-46C3-8950-27B3CAC7C8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D689D-18C8-4812-845A-933FEE25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89EA0-1B73-4585-A58D-6B10DEC0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A6C60-6013-4361-A2BF-92316BE6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24F21-1A15-436D-BB9E-762B56D7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DF8B9-0F0B-4136-B5AD-157A1566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E5395-232C-46E8-B927-42C2FA15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F0F04-E936-4CBA-B9BF-C4C4E58F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4AB753-139B-4DE5-8C4B-BB3184EE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17773-03C6-4058-AB87-812932AF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89EAD-7301-4B25-A08B-C7D72127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AD5BE-A90E-4CBE-9507-B47541B3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C59A-3888-4A72-8162-72D269C7CE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73413-7231-4235-B31A-BD2F70D4D7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30722F-0AEA-47D7-BC35-51C456AA46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B2D2FC-6560-48C1-A4C1-A2E402FE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BB2F16-1D02-48B7-A1C3-9F4E4A9E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4F7127-3FF5-440F-A0C8-0F2ABA06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7C6F46-19CE-4F26-9829-57E4DE4A6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21BEC6-107D-46CB-8376-FCA8385B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F0A730-44CE-43B2-98E5-783A9DC3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01280C-73B4-469D-8618-997E0C336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F3C7F0-E9B6-41F7-B654-C52A04AA7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F776F-8055-4E2E-85FC-57D44B6D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AADAFA-3FE4-4B39-AC82-CB631448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18381D-7616-475C-BA5C-4B1284D7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B5ECFA-FFCC-4E23-8E78-7DD4C2260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5BDED5-4E7D-48EE-9017-880B87500B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97DA7-DA2A-4932-A80C-F9E554C3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132EC7-5A69-4EAE-937B-297BA1F1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0202E6-6E02-4905-91E2-C841201A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715AAD-5FB7-4D42-9445-51B13B00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BBE1F3-9DF3-47A3-A391-E730B660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635B0-4C2E-4B51-B7BB-38F5DAEB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98CA7-587F-41AA-94A7-8C30D7C3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46CF8-458C-487E-8E98-A54C4577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EC060-C197-476F-BEA4-BDDE54F3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EB2D6-0F0B-4467-B922-1FCB418B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F98087-AD73-48FC-9D2C-E53E8F60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BFF9D2-C1B0-4D49-864A-B338A6F81E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130BE-5445-4657-AB2D-56345CFE03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A1943-6F9C-4348-948D-BE45246E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3F5A7-56E2-40C9-969E-D05E11F8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3F18E-AA90-40DD-A61B-9C4AC7DB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E4501-D25F-4B3E-BE09-06E0E69C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42DA2-05FD-436B-BE78-2DE254FE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C47D6-C1D8-44B7-B207-999BF316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481DBD-C005-4F09-AEB5-A6881275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3C2EC-EBD7-42C5-AC00-CC82AB09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1FE90-834D-45CB-B975-C19AD40F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F0148-0FA8-496C-8D66-04D66145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1E412-523B-4FDB-A846-9D097F5C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4D09B-17FB-4610-B9B1-1579529680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D3D38-E164-4968-9661-650F8A83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F9464-22FB-4107-ACA5-BCA9B56A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D0C5B-EC0A-4E82-85F9-45FB2A83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840CA-A328-4387-BCD7-9F90B8C9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0010B6-9C9F-48AF-BAA1-42F843F4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27033-9177-4A2C-B1DC-8A34B06F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8685A-7CD3-4EA0-9449-4128B991F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4EFC0-EE5E-4CB7-B581-ABFCF438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F43580-6F95-4FCA-B2E5-86BD3CFE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E5920-6E84-4689-927F-DBC87C0C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6F0CD-31E4-44F1-9BCD-A17001C0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642CA-308D-46B6-994E-AF52C55F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8E3F1-4651-4189-BC89-734D8587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9A7F08-376B-44F0-87E8-51A92AB4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1A624-EAAA-4C5A-8824-BDD4B55D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57C4C-F155-4BBC-8DA8-0AFEDDACF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43F111-04F6-42C5-A015-528222B3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1ABDA-A321-4098-B19F-E57409C7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16998-5835-4C9D-835B-839789773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50455-9ACF-4B4C-B353-47AE37BA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7A43A-F451-4980-BDC4-FF7D2321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1677D-B92D-44DA-9283-3C4B4852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66842-A5D5-4F39-8D46-5D1F9BB7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4F8A0-A63C-4A10-9EE5-14A762AF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7AC2F-550C-4824-9ECB-1153D87B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D19DA-CB5C-4E1D-853F-BC8F8FC5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E778B-0AD3-47AF-952B-387C30FF1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0E466-B553-4F06-9A66-B0A168D2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9B248-B963-4ADA-9342-CC331CD9A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BA715-4D26-4162-A3D8-9B2F113F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43B58-43F8-4922-A00C-FBA5D91C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172DB-AA32-4A74-95F7-5F7FDADC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E3353D-8D9E-475D-8E60-1071F41A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D3B18-297A-46DC-A154-6FA07988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DFDBD-DC5D-43A9-9135-92FD1929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2CB77-B254-4F71-88CF-50775AE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EB817-29D2-496B-B5AF-1D66FEC1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A5315-6C7C-4E5B-A951-4D4BBD2A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8CE2E-B527-402E-B2AC-517EBFFD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BE0CA-213D-4201-BDF2-D1C0E7DC0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8AFC6-3C4D-49FE-91A1-E2C8269A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BF691-576B-4681-AC76-13D65896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B67480-9D10-478E-9A13-898F8ADA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3D101-2592-48E6-85F3-4705D5E1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4224D2-0764-40B7-8505-605B1535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C6B01-95BE-4E17-BD1C-1CD45785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991FA-C969-433C-B227-A030EF07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FD955-B6AE-4396-8C69-1FEF3D90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DBF0F-FD30-49D7-8C13-54FA325D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2DE488-B4CD-4172-A14D-6760536F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4E01B-DBF1-4DF6-A626-1F3B3780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4E7469-B5EA-4F16-BE31-E624E597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9F9F0-57BF-496E-ABB9-29C089C6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2AA24B-8231-4144-80C1-C5D2E992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E7254-8D56-4E0B-8829-38C0CE83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4200D4-38D0-4DCC-91EB-605C04FF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55EFE-211E-4867-9A10-A01FB1FC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C0158-E6FE-4AD9-ABA5-54E89724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53890D-5B09-4B99-9440-9C7E418E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30832-DC5D-4B75-872D-622C84B8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847F8-7EBE-464E-8FAC-8CC2A8D7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38EA8-D75A-4F84-B67F-CA938F98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EE141-8F2A-40F4-BB56-7678B33A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00BF18-8E98-4360-B951-23E2F834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6A002-8608-46E1-A46E-24E3029B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259DA0-AC93-4616-B1D1-7DBAFE19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42DA04-0E44-413F-8FD9-ACC2CC26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DA41A7-CB9A-4122-8CCB-3B7B6D816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56225B-5DB5-43DB-8426-F1E74B48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F49EF0-5C98-4BF2-9328-724139E06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AFE02-F9B1-4408-8CD8-C337EE42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1AD74-A4B1-4B2C-9AB4-F1363E3B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71E61-0F90-4D0A-8E7D-8E3C3903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52F9F5-8340-4540-ADA2-3B87DE4F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56ABE5-54F6-4AA0-898A-85795561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F66A5-E438-496A-B6EC-A22965E49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2B6A51-503D-4C66-8304-2F395231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4B78D7-F637-4726-A2C4-45B4CE11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CBE961-0979-47BC-A3DB-BD0776E6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406688-9A8D-4CE3-96A1-8FE30A00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BA6057-865C-429E-909A-5A6598DC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BAC60C-CCE0-44F0-AA50-44E7A09C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D1BEE7-F961-46A5-AE7F-25D118FF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2E104-3567-44CB-9499-071ACAA2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4EDD09-A755-4521-AB75-67457F11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DD1AD8-AE57-45A2-BFBD-0852A2DC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FF34C-5413-4831-91AB-2E6FD90B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572865-4EC7-4120-8C06-7C119AD2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FD05F7-14FB-4F34-86E5-AD6BB47E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1C912A-9C1C-4B25-A52A-E96DA46F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65905E-B06D-4B57-886E-5CE1ED09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FF6ED-670C-4ABF-9E53-15A708A15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8A127-7672-46C6-A942-96ABDED8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45C6D-9561-4FA6-85BF-5CCFE8EE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580813-B1EE-4E98-A723-00EBFE27F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D78DA0-C943-44A5-AC8F-674E891A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37F6E9-95A5-489D-AC05-FE7C823F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7C6A9-A0D5-4470-A805-EA9B8E5A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9A1D25-0F51-4578-8747-536FB076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930B92-73E3-4099-BEDB-6CD2828B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B9226-544F-449E-8A8B-48092A14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1ECAA5-D059-45E2-A2E8-C8C375E0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A5D6E2-A58D-43D4-B3E5-D7C9D25A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21034B-4937-4999-B35D-A2C681ED05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FD2D54-F6E4-4BF2-8B33-4A572EA5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B1D882-47C6-466D-911D-ECC9D8B03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B682F2-83F9-46A2-A839-2D71F88C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CF9745-0866-4279-BA64-45310C88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D442E-8578-4D21-B57F-2A6BA7CE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A4EF0C-3485-46EF-B6B2-96A0E6F8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7A409E-32A0-435B-914E-5EEA046D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3F786A-CAFE-4314-A743-FF8CB6A1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FD631B-90BE-4A40-B7CB-6DF70898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41B2E9-0567-410F-8312-B1ACAA81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5AE340-CCB3-4810-9768-C959D795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6A312A-EED4-474F-8410-8FEE526A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F1982-8EAE-4942-85AF-B3A2095B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2F71E-A310-477A-86C8-3B5EC000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F6252-04A0-45BA-A8A1-93B7541F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DF321F-D69D-42CD-9682-953F7A79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9F65D6-EED6-45DA-B143-4A8BF8AB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C3A19E-08CF-4E3E-9ACC-FE452DD3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A0111D-5499-44F0-B886-2A741078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0446AE-5604-4F4D-B23F-FAF96C42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5EB162-F95E-49BF-AAD6-F09B312C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825E4B-508A-4E98-94A5-F6B004EF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70F9F0-8DF9-4F5E-8A79-B8B74C160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7B605E-5ED6-4FF1-9C97-0B2819A6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D7D6B-8400-40F8-BF34-8D4A7FE7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D59E64-CDAE-41A3-B1A3-7247BFBA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FD2FF1-B22F-42BF-8CA7-97D672DBA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0F25A8-8304-48C4-88A6-E1C45406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35097-E771-4091-A460-EAAA618A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9F4D0-33D1-4783-8A88-3F2462AE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EAFAA0-AA1D-4105-AB79-F514D807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CD0584-8DB3-48ED-9663-B7BA4706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47E5D6-3A1C-47BB-A8F6-720E85F2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5F1C4A-B72D-4615-A267-18F831BB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DF295C-A189-4066-ACA4-916C18B1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9A2677-4782-423C-A330-6117C36A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FABC8B-60A2-4272-831B-DEC632C6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0035F-3DCC-4C43-81E0-9FD1D8A1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3A19BB-A095-4D5A-BD06-C94662DF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53390F-11C5-4109-BD5B-858531A8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F4F6B6-E8DA-4385-84B4-4A1280F4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08EB85-CEFB-4B95-8E5A-7E82F6205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1FAE7C-20B2-4DC3-ABC0-36F9CB80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9536-B547-4902-8F62-D60488EB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964E6F-F25A-4DB9-85F4-EE3C77DC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A16EF7-E8B4-4FB0-947C-57B9481F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F3AE6D-354F-448E-9C6B-FE900A70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4A2A2-E25B-4836-989B-8E1B9713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6186C7-D624-4D64-834F-4C2DE050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7248DB-F07E-46BF-860C-748F89B4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1BBAE-2BE9-400A-80AA-E7378B06A2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3C2D-6098-439D-BF76-CDF362B8C9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B8E5-FB28-4542-B3CA-585D75D0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B5A0D-F522-4AB5-99E5-AE96DB53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B634F-45CE-4A36-AC2D-0A5FFCD7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80BE6-A51F-4B4F-BFD1-EB962D9D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9498D-3B83-4A81-B232-53ABF5B0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9E2FD-3AFC-4054-ADB3-47DA15F99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E725-CEFF-4825-93A0-31172AA8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A0013-A4E9-4C40-99D3-B9EA1222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EE3DB-154B-466A-9A4C-AE671175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CAB04-37D5-401A-8C6A-E04294D3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03376-42E6-4E48-8137-59CF1CEE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526CE-D5CD-498C-B155-392C4E4A65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382A9-A59F-4240-87DA-7592F76E45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BEAB5-84FE-4631-A2BF-6DF74504C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6E4C0-9584-4ED8-985E-BE33D366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E74991-1FD3-4A6F-AB94-39806062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0D89D9-3471-4239-BBF5-93863720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808B82-3DC5-47EF-8E41-FB18DBF7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065849-51C7-4DF2-A890-3D849B48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C475E9-8A6E-49FB-9710-8FB0BE6AA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3CBE0-B9BB-45B6-ABE3-0F0CC4C2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424C5-0C87-4128-B6ED-13F6C766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874B6-5C71-44B4-B0AD-2BDB35B1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5EBA39-0DD4-4DF1-9DE1-11D48A0A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C39F7-6915-4488-85F1-71A451139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561AD-91B4-4F46-A468-48D8149787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A5F8AB-0377-458B-831E-A93562F9FC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6F4200-789F-4C70-8CDF-AE506CAC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C5E31B-94F5-468B-9CEC-A1EAD9A6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DB5810-23FE-4512-BF99-5E35B155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81EF75-4331-46CE-831E-5362CF7D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A601ED-7BCA-4BD8-A490-AED0E852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C0C303-9A6A-4FCE-AD4C-2993890F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B3F83C-2E3A-4BF0-ABFC-85A6DFC3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48E4DE-9A9A-4649-B624-9D1D76A9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6ADA-4546-43C5-A5E6-182F9099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74D21B-4AF0-4B2D-ADCE-91EA288B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61FBFF-533E-412A-A1E6-6D0F3E3C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A10F83-7E68-4EDC-8D82-952B3C17C1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FC9DC-DC7C-4D0D-BE45-AC761FA443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DDE65-364C-484C-87B7-8F5D333E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59B9-44AA-4069-AF51-9EA775A1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19994-21B6-41BD-A5E2-2F3D94AF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79F06-A717-4031-BF2B-FF81E721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E33D3-05CE-4D7A-A48D-95C4607E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BF2B4-3F72-4C5E-B113-6543F470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9A63-ABB1-4BEE-9587-5ED38217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C9796-65C1-4497-B7A9-899675D5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C3315-C63D-4FA8-AB62-B7D3F7F9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12640-6D25-4946-B9D1-36EDDD11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E918B-EC91-462B-979E-770C1C82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989B6-9B65-4FCC-A82D-B781DF9D8F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F13A08-CD72-4025-8F59-BBF49E4BA0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2E60F8-6C74-4AB6-BFE7-4BFBD01C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491D9E-19D5-4C07-BF33-42025CE9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BF7C99-1A85-4884-8008-9EDD19C0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1C2AD4-0728-42D2-B01B-AF0A5755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51A55-3AED-4748-9450-FF06DFA3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10D63-AB60-49F2-B7B8-FD6C2BF3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5A04B-466E-4FEC-B13F-F66F75E8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AB3914-53D7-48E6-AD67-24184F01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C9CDEF-6C0C-423F-A400-168AD089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3AD64-0A3D-48FE-AE35-6747FE24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005D0A-8E0D-4B48-8404-EE5922AE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E2E08-EA1D-4AC9-BF25-168C0B5992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232A45-D1CD-4111-AC9D-F07DABCC30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3C57EE-6E5B-448F-A02B-E76C5759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B47E0B-E5BA-4970-BC56-45A30BFD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146F-8E22-4E77-804B-654B479DD4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4CC0-FA5F-4735-AE2A-42D53A599AD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3EAE-EB3E-4492-97CF-57B546568E4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0379-4BBA-4BA4-B1F5-DB9AE364A9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D5F8-F910-4290-9057-3A462015D2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5A73-CF92-4ABC-947C-2C75F7221B8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2574-1159-4045-A61E-D88DB092062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8AFA-3B6E-4AF4-A0F7-96C2143F3BC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C4D4-E0CD-468B-9954-76FA335D5D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3FB6-C4AE-4313-8872-B07B0B01DA1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D79C-C650-4E13-ABB2-EC1190C639A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D42B-EC21-46FF-B6C7-4D4ABC4817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70C8-961F-4201-A3DC-B7BE56C272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82C3-9CB3-4A06-8D32-4747E2C21B0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AB96-31BB-483F-9E37-5FAE2EC5B1D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91D0-28A5-45D4-85C7-110A016F462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B0C9-2E3F-459B-9962-63D48081318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AF2A-1341-48B2-BB42-452337B234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1927-81EA-4923-9312-208154DA1A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3AFC-2D82-4FCC-B567-7461002FC9E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F962D-555D-4390-A2AF-3BAAE729991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34B2-1C12-4930-A655-E5EBBB1F4E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CBAB-7952-4914-9EC5-8E4C396AF08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183B-9107-4BEA-8B5F-D210C48369C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89200" y="2730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6480" y="2655720"/>
            <a:ext cx="844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4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6520" y="1816200"/>
            <a:ext cx="91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2"/>
          <p:cNvSpPr/>
          <p:nvPr/>
        </p:nvSpPr>
        <p:spPr>
          <a:xfrm>
            <a:off x="563400" y="988920"/>
            <a:ext cx="8356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写出得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5+20+8=             56-3+10=              46+16-20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2-12+43=            83-7 -60=              35+18-41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7- 4- 33=            43+5+17=               52-26-26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文本框 3"/>
          <p:cNvSpPr/>
          <p:nvPr/>
        </p:nvSpPr>
        <p:spPr>
          <a:xfrm>
            <a:off x="2041560" y="17254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文本框 4"/>
          <p:cNvSpPr/>
          <p:nvPr/>
        </p:nvSpPr>
        <p:spPr>
          <a:xfrm>
            <a:off x="4424400" y="171936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文本框 5"/>
          <p:cNvSpPr/>
          <p:nvPr/>
        </p:nvSpPr>
        <p:spPr>
          <a:xfrm>
            <a:off x="7037280" y="172872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文本框 6"/>
          <p:cNvSpPr/>
          <p:nvPr/>
        </p:nvSpPr>
        <p:spPr>
          <a:xfrm>
            <a:off x="2112840" y="246060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文本框 7"/>
          <p:cNvSpPr/>
          <p:nvPr/>
        </p:nvSpPr>
        <p:spPr>
          <a:xfrm>
            <a:off x="4336920" y="244152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文本框 8"/>
          <p:cNvSpPr/>
          <p:nvPr/>
        </p:nvSpPr>
        <p:spPr>
          <a:xfrm>
            <a:off x="7024680" y="245268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文本框 9"/>
          <p:cNvSpPr/>
          <p:nvPr/>
        </p:nvSpPr>
        <p:spPr>
          <a:xfrm>
            <a:off x="2073240" y="316224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文本框 10"/>
          <p:cNvSpPr/>
          <p:nvPr/>
        </p:nvSpPr>
        <p:spPr>
          <a:xfrm>
            <a:off x="4417920" y="318456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文本框 12"/>
          <p:cNvSpPr/>
          <p:nvPr/>
        </p:nvSpPr>
        <p:spPr>
          <a:xfrm>
            <a:off x="7121520" y="316224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文本框 2"/>
          <p:cNvSpPr/>
          <p:nvPr/>
        </p:nvSpPr>
        <p:spPr>
          <a:xfrm>
            <a:off x="523800" y="79056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列竖式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文本框 3"/>
          <p:cNvSpPr/>
          <p:nvPr/>
        </p:nvSpPr>
        <p:spPr>
          <a:xfrm>
            <a:off x="561960" y="1328760"/>
            <a:ext cx="81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4+11+16=         70-25-14=             80-49+2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0" name="组合 7"/>
          <p:cNvGrpSpPr/>
          <p:nvPr/>
        </p:nvGrpSpPr>
        <p:grpSpPr>
          <a:xfrm>
            <a:off x="849240" y="1854360"/>
            <a:ext cx="1471680" cy="2226960"/>
            <a:chOff x="849240" y="1854360"/>
            <a:chExt cx="1471680" cy="2226960"/>
          </a:xfrm>
        </p:grpSpPr>
        <p:sp>
          <p:nvSpPr>
            <p:cNvPr id="1011" name="文本框 4"/>
            <p:cNvSpPr/>
            <p:nvPr/>
          </p:nvSpPr>
          <p:spPr>
            <a:xfrm>
              <a:off x="849240" y="1854360"/>
              <a:ext cx="147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  4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1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6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1  6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直接连接符 5"/>
            <p:cNvSpPr/>
            <p:nvPr/>
          </p:nvSpPr>
          <p:spPr>
            <a:xfrm>
              <a:off x="912600" y="279324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直接连接符 6"/>
            <p:cNvSpPr/>
            <p:nvPr/>
          </p:nvSpPr>
          <p:spPr>
            <a:xfrm>
              <a:off x="900360" y="354816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组合 8"/>
          <p:cNvGrpSpPr/>
          <p:nvPr/>
        </p:nvGrpSpPr>
        <p:grpSpPr>
          <a:xfrm>
            <a:off x="3595680" y="1854360"/>
            <a:ext cx="1471680" cy="2226960"/>
            <a:chOff x="3595680" y="1854360"/>
            <a:chExt cx="1471680" cy="2226960"/>
          </a:xfrm>
        </p:grpSpPr>
        <p:sp>
          <p:nvSpPr>
            <p:cNvPr id="1015" name="文本框 9"/>
            <p:cNvSpPr/>
            <p:nvPr/>
          </p:nvSpPr>
          <p:spPr>
            <a:xfrm>
              <a:off x="3595680" y="1854360"/>
              <a:ext cx="147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7  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  2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4 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  1  4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直接连接符 10"/>
            <p:cNvSpPr/>
            <p:nvPr/>
          </p:nvSpPr>
          <p:spPr>
            <a:xfrm>
              <a:off x="3659040" y="279324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直接连接符 12"/>
            <p:cNvSpPr/>
            <p:nvPr/>
          </p:nvSpPr>
          <p:spPr>
            <a:xfrm>
              <a:off x="3646800" y="354816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14"/>
          <p:cNvGrpSpPr/>
          <p:nvPr/>
        </p:nvGrpSpPr>
        <p:grpSpPr>
          <a:xfrm>
            <a:off x="6342120" y="1854360"/>
            <a:ext cx="1471680" cy="2226960"/>
            <a:chOff x="6342120" y="1854360"/>
            <a:chExt cx="1471680" cy="2226960"/>
          </a:xfrm>
        </p:grpSpPr>
        <p:sp>
          <p:nvSpPr>
            <p:cNvPr id="1019" name="文本框 15"/>
            <p:cNvSpPr/>
            <p:nvPr/>
          </p:nvSpPr>
          <p:spPr>
            <a:xfrm>
              <a:off x="6342120" y="1854360"/>
              <a:ext cx="147168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8  0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-   4  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3 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+  2  3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0" lang="en-US" sz="2800" spc="-1" strike="noStrike">
                  <a:solidFill>
                    <a:srgbClr val="ff0000"/>
                  </a:solidFill>
                  <a:latin typeface="Arial"/>
                </a:rPr>
                <a:t>5  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直接连接符 16"/>
            <p:cNvSpPr/>
            <p:nvPr/>
          </p:nvSpPr>
          <p:spPr>
            <a:xfrm>
              <a:off x="6405480" y="279324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直接连接符 17"/>
            <p:cNvSpPr/>
            <p:nvPr/>
          </p:nvSpPr>
          <p:spPr>
            <a:xfrm>
              <a:off x="6393240" y="3548160"/>
              <a:ext cx="1090080" cy="0"/>
            </a:xfrm>
            <a:prstGeom prst="line">
              <a:avLst/>
            </a:prstGeom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文本框 18"/>
          <p:cNvSpPr/>
          <p:nvPr/>
        </p:nvSpPr>
        <p:spPr>
          <a:xfrm>
            <a:off x="2436840" y="1320840"/>
            <a:ext cx="65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文本框 19"/>
          <p:cNvSpPr/>
          <p:nvPr/>
        </p:nvSpPr>
        <p:spPr>
          <a:xfrm>
            <a:off x="4943520" y="133344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文本框 20"/>
          <p:cNvSpPr/>
          <p:nvPr/>
        </p:nvSpPr>
        <p:spPr>
          <a:xfrm>
            <a:off x="7943760" y="1333440"/>
            <a:ext cx="65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文本框 2"/>
          <p:cNvSpPr/>
          <p:nvPr/>
        </p:nvSpPr>
        <p:spPr>
          <a:xfrm>
            <a:off x="555480" y="790560"/>
            <a:ext cx="35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组合 65"/>
          <p:cNvGrpSpPr/>
          <p:nvPr/>
        </p:nvGrpSpPr>
        <p:grpSpPr>
          <a:xfrm>
            <a:off x="571680" y="1479600"/>
            <a:ext cx="6932160" cy="2556720"/>
            <a:chOff x="571680" y="1479600"/>
            <a:chExt cx="6932160" cy="2556720"/>
          </a:xfrm>
        </p:grpSpPr>
        <p:grpSp>
          <p:nvGrpSpPr>
            <p:cNvPr id="1027" name="组合 8"/>
            <p:cNvGrpSpPr/>
            <p:nvPr/>
          </p:nvGrpSpPr>
          <p:grpSpPr>
            <a:xfrm>
              <a:off x="1142640" y="1725120"/>
              <a:ext cx="2464560" cy="388080"/>
              <a:chOff x="1142640" y="1725120"/>
              <a:chExt cx="2464560" cy="388080"/>
            </a:xfrm>
          </p:grpSpPr>
          <p:sp>
            <p:nvSpPr>
              <p:cNvPr id="1028" name="矩形 4"/>
              <p:cNvSpPr/>
              <p:nvPr/>
            </p:nvSpPr>
            <p:spPr>
              <a:xfrm>
                <a:off x="1931760" y="1725120"/>
                <a:ext cx="38232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29" name="直接箭头连接符 5"/>
              <p:cNvCxnSpPr/>
              <p:nvPr/>
            </p:nvCxnSpPr>
            <p:spPr>
              <a:xfrm>
                <a:off x="1142640" y="1899000"/>
                <a:ext cx="72036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  <p:sp>
            <p:nvSpPr>
              <p:cNvPr id="1030" name="矩形 6"/>
              <p:cNvSpPr/>
              <p:nvPr/>
            </p:nvSpPr>
            <p:spPr>
              <a:xfrm>
                <a:off x="3225240" y="1731240"/>
                <a:ext cx="38196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1" name="直接箭头连接符 7"/>
              <p:cNvCxnSpPr/>
              <p:nvPr/>
            </p:nvCxnSpPr>
            <p:spPr>
              <a:xfrm>
                <a:off x="2436480" y="1905480"/>
                <a:ext cx="72000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</p:grpSp>
        <p:grpSp>
          <p:nvGrpSpPr>
            <p:cNvPr id="1032" name="组合 9"/>
            <p:cNvGrpSpPr/>
            <p:nvPr/>
          </p:nvGrpSpPr>
          <p:grpSpPr>
            <a:xfrm>
              <a:off x="5039640" y="1708560"/>
              <a:ext cx="2464200" cy="388080"/>
              <a:chOff x="5039640" y="1708560"/>
              <a:chExt cx="2464200" cy="388080"/>
            </a:xfrm>
          </p:grpSpPr>
          <p:sp>
            <p:nvSpPr>
              <p:cNvPr id="1033" name="矩形 10"/>
              <p:cNvSpPr/>
              <p:nvPr/>
            </p:nvSpPr>
            <p:spPr>
              <a:xfrm>
                <a:off x="5828400" y="1708560"/>
                <a:ext cx="38232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4" name="直接箭头连接符 12"/>
              <p:cNvCxnSpPr/>
              <p:nvPr/>
            </p:nvCxnSpPr>
            <p:spPr>
              <a:xfrm>
                <a:off x="5039640" y="188244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  <p:sp>
            <p:nvSpPr>
              <p:cNvPr id="1035" name="矩形 14"/>
              <p:cNvSpPr/>
              <p:nvPr/>
            </p:nvSpPr>
            <p:spPr>
              <a:xfrm>
                <a:off x="7121880" y="1714680"/>
                <a:ext cx="38196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6" name="直接箭头连接符 15"/>
              <p:cNvCxnSpPr/>
              <p:nvPr/>
            </p:nvCxnSpPr>
            <p:spPr>
              <a:xfrm>
                <a:off x="6333120" y="188892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</p:grpSp>
        <p:grpSp>
          <p:nvGrpSpPr>
            <p:cNvPr id="1037" name="组合 21"/>
            <p:cNvGrpSpPr/>
            <p:nvPr/>
          </p:nvGrpSpPr>
          <p:grpSpPr>
            <a:xfrm>
              <a:off x="1117800" y="2625120"/>
              <a:ext cx="2464200" cy="388080"/>
              <a:chOff x="1117800" y="2625120"/>
              <a:chExt cx="2464200" cy="388080"/>
            </a:xfrm>
          </p:grpSpPr>
          <p:sp>
            <p:nvSpPr>
              <p:cNvPr id="1038" name="矩形 22"/>
              <p:cNvSpPr/>
              <p:nvPr/>
            </p:nvSpPr>
            <p:spPr>
              <a:xfrm>
                <a:off x="1906560" y="2625120"/>
                <a:ext cx="38232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9" name="直接箭头连接符 23"/>
              <p:cNvCxnSpPr/>
              <p:nvPr/>
            </p:nvCxnSpPr>
            <p:spPr>
              <a:xfrm>
                <a:off x="1117800" y="279900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  <p:sp>
            <p:nvSpPr>
              <p:cNvPr id="1040" name="矩形 24"/>
              <p:cNvSpPr/>
              <p:nvPr/>
            </p:nvSpPr>
            <p:spPr>
              <a:xfrm>
                <a:off x="3200040" y="2631240"/>
                <a:ext cx="38196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1" name="直接箭头连接符 25"/>
              <p:cNvCxnSpPr/>
              <p:nvPr/>
            </p:nvCxnSpPr>
            <p:spPr>
              <a:xfrm>
                <a:off x="2411280" y="280548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</p:grpSp>
        <p:grpSp>
          <p:nvGrpSpPr>
            <p:cNvPr id="1042" name="组合 26"/>
            <p:cNvGrpSpPr/>
            <p:nvPr/>
          </p:nvGrpSpPr>
          <p:grpSpPr>
            <a:xfrm>
              <a:off x="5039640" y="2656800"/>
              <a:ext cx="2464200" cy="388080"/>
              <a:chOff x="5039640" y="2656800"/>
              <a:chExt cx="2464200" cy="388080"/>
            </a:xfrm>
          </p:grpSpPr>
          <p:sp>
            <p:nvSpPr>
              <p:cNvPr id="1043" name="矩形 27"/>
              <p:cNvSpPr/>
              <p:nvPr/>
            </p:nvSpPr>
            <p:spPr>
              <a:xfrm>
                <a:off x="5828400" y="2656800"/>
                <a:ext cx="38232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4" name="直接箭头连接符 28"/>
              <p:cNvCxnSpPr/>
              <p:nvPr/>
            </p:nvCxnSpPr>
            <p:spPr>
              <a:xfrm>
                <a:off x="5039640" y="283068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  <p:sp>
            <p:nvSpPr>
              <p:cNvPr id="1045" name="矩形 35"/>
              <p:cNvSpPr/>
              <p:nvPr/>
            </p:nvSpPr>
            <p:spPr>
              <a:xfrm>
                <a:off x="7121880" y="2662920"/>
                <a:ext cx="38196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46" name="直接箭头连接符 36"/>
              <p:cNvCxnSpPr/>
              <p:nvPr/>
            </p:nvCxnSpPr>
            <p:spPr>
              <a:xfrm>
                <a:off x="6333120" y="283716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</p:grpSp>
        <p:sp>
          <p:nvSpPr>
            <p:cNvPr id="1047" name="文本框 37"/>
            <p:cNvSpPr/>
            <p:nvPr/>
          </p:nvSpPr>
          <p:spPr>
            <a:xfrm>
              <a:off x="581760" y="1645920"/>
              <a:ext cx="6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组合 38"/>
            <p:cNvGrpSpPr/>
            <p:nvPr/>
          </p:nvGrpSpPr>
          <p:grpSpPr>
            <a:xfrm>
              <a:off x="1124280" y="3598200"/>
              <a:ext cx="2464200" cy="388080"/>
              <a:chOff x="1124280" y="3598200"/>
              <a:chExt cx="2464200" cy="388080"/>
            </a:xfrm>
          </p:grpSpPr>
          <p:sp>
            <p:nvSpPr>
              <p:cNvPr id="1049" name="矩形 39"/>
              <p:cNvSpPr/>
              <p:nvPr/>
            </p:nvSpPr>
            <p:spPr>
              <a:xfrm>
                <a:off x="1913040" y="3598200"/>
                <a:ext cx="38232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0" name="直接箭头连接符 40"/>
              <p:cNvCxnSpPr/>
              <p:nvPr/>
            </p:nvCxnSpPr>
            <p:spPr>
              <a:xfrm>
                <a:off x="1124280" y="377208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  <p:sp>
            <p:nvSpPr>
              <p:cNvPr id="1051" name="矩形 41"/>
              <p:cNvSpPr/>
              <p:nvPr/>
            </p:nvSpPr>
            <p:spPr>
              <a:xfrm>
                <a:off x="3206520" y="3604320"/>
                <a:ext cx="38196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2" name="直接箭头连接符 42"/>
              <p:cNvCxnSpPr/>
              <p:nvPr/>
            </p:nvCxnSpPr>
            <p:spPr>
              <a:xfrm>
                <a:off x="2417760" y="377856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</p:grpSp>
        <p:grpSp>
          <p:nvGrpSpPr>
            <p:cNvPr id="1053" name="组合 43"/>
            <p:cNvGrpSpPr/>
            <p:nvPr/>
          </p:nvGrpSpPr>
          <p:grpSpPr>
            <a:xfrm>
              <a:off x="5039640" y="3605040"/>
              <a:ext cx="2464200" cy="388080"/>
              <a:chOff x="5039640" y="3605040"/>
              <a:chExt cx="2464200" cy="388080"/>
            </a:xfrm>
          </p:grpSpPr>
          <p:sp>
            <p:nvSpPr>
              <p:cNvPr id="1054" name="矩形 44"/>
              <p:cNvSpPr/>
              <p:nvPr/>
            </p:nvSpPr>
            <p:spPr>
              <a:xfrm>
                <a:off x="5828400" y="3605040"/>
                <a:ext cx="38232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5" name="直接箭头连接符 45"/>
              <p:cNvCxnSpPr/>
              <p:nvPr/>
            </p:nvCxnSpPr>
            <p:spPr>
              <a:xfrm>
                <a:off x="5039640" y="377892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  <p:sp>
            <p:nvSpPr>
              <p:cNvPr id="1056" name="矩形 46"/>
              <p:cNvSpPr/>
              <p:nvPr/>
            </p:nvSpPr>
            <p:spPr>
              <a:xfrm>
                <a:off x="7121880" y="3611160"/>
                <a:ext cx="381960" cy="381960"/>
              </a:xfrm>
              <a:prstGeom prst="rect">
                <a:avLst/>
              </a:prstGeom>
              <a:noFill/>
              <a:ln w="158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57" name="直接箭头连接符 47"/>
              <p:cNvCxnSpPr/>
              <p:nvPr/>
            </p:nvCxnSpPr>
            <p:spPr>
              <a:xfrm>
                <a:off x="6333120" y="3785400"/>
                <a:ext cx="720720" cy="1080"/>
              </a:xfrm>
              <a:prstGeom prst="straightConnector1">
                <a:avLst/>
              </a:prstGeom>
              <a:ln w="12600">
                <a:solidFill>
                  <a:srgbClr val="00b0f0"/>
                </a:solidFill>
                <a:miter/>
                <a:tailEnd len="med" type="arrow" w="med"/>
              </a:ln>
            </p:spPr>
          </p:cxnSp>
        </p:grpSp>
        <p:sp>
          <p:nvSpPr>
            <p:cNvPr id="1058" name="文本框 48"/>
            <p:cNvSpPr/>
            <p:nvPr/>
          </p:nvSpPr>
          <p:spPr>
            <a:xfrm>
              <a:off x="4463280" y="1652400"/>
              <a:ext cx="6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文本框 49"/>
            <p:cNvSpPr/>
            <p:nvPr/>
          </p:nvSpPr>
          <p:spPr>
            <a:xfrm>
              <a:off x="580320" y="2543760"/>
              <a:ext cx="6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文本框 50"/>
            <p:cNvSpPr/>
            <p:nvPr/>
          </p:nvSpPr>
          <p:spPr>
            <a:xfrm>
              <a:off x="4462200" y="2584080"/>
              <a:ext cx="6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文本框 51"/>
            <p:cNvSpPr/>
            <p:nvPr/>
          </p:nvSpPr>
          <p:spPr>
            <a:xfrm>
              <a:off x="571680" y="3509280"/>
              <a:ext cx="6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文本框 52"/>
            <p:cNvSpPr/>
            <p:nvPr/>
          </p:nvSpPr>
          <p:spPr>
            <a:xfrm>
              <a:off x="4453200" y="3515760"/>
              <a:ext cx="6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文本框 53"/>
            <p:cNvSpPr/>
            <p:nvPr/>
          </p:nvSpPr>
          <p:spPr>
            <a:xfrm>
              <a:off x="1140480" y="149724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文本框 54"/>
            <p:cNvSpPr/>
            <p:nvPr/>
          </p:nvSpPr>
          <p:spPr>
            <a:xfrm>
              <a:off x="2423520" y="149616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文本框 55"/>
            <p:cNvSpPr/>
            <p:nvPr/>
          </p:nvSpPr>
          <p:spPr>
            <a:xfrm>
              <a:off x="5006880" y="148068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文本框 56"/>
            <p:cNvSpPr/>
            <p:nvPr/>
          </p:nvSpPr>
          <p:spPr>
            <a:xfrm>
              <a:off x="6289920" y="147960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文本框 57"/>
            <p:cNvSpPr/>
            <p:nvPr/>
          </p:nvSpPr>
          <p:spPr>
            <a:xfrm>
              <a:off x="1093680" y="238752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文本框 58"/>
            <p:cNvSpPr/>
            <p:nvPr/>
          </p:nvSpPr>
          <p:spPr>
            <a:xfrm>
              <a:off x="2376360" y="238644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文本框 59"/>
            <p:cNvSpPr/>
            <p:nvPr/>
          </p:nvSpPr>
          <p:spPr>
            <a:xfrm>
              <a:off x="5046840" y="244224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文本框 60"/>
            <p:cNvSpPr/>
            <p:nvPr/>
          </p:nvSpPr>
          <p:spPr>
            <a:xfrm>
              <a:off x="6322320" y="244944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文本框 61"/>
            <p:cNvSpPr/>
            <p:nvPr/>
          </p:nvSpPr>
          <p:spPr>
            <a:xfrm>
              <a:off x="1155240" y="335952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文本框 62"/>
            <p:cNvSpPr/>
            <p:nvPr/>
          </p:nvSpPr>
          <p:spPr>
            <a:xfrm>
              <a:off x="2437920" y="335808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文本框 63"/>
            <p:cNvSpPr/>
            <p:nvPr/>
          </p:nvSpPr>
          <p:spPr>
            <a:xfrm>
              <a:off x="5070600" y="338400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文本框 64"/>
            <p:cNvSpPr/>
            <p:nvPr/>
          </p:nvSpPr>
          <p:spPr>
            <a:xfrm>
              <a:off x="6353280" y="3382920"/>
              <a:ext cx="71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文本框 66"/>
          <p:cNvSpPr/>
          <p:nvPr/>
        </p:nvSpPr>
        <p:spPr>
          <a:xfrm>
            <a:off x="1871640" y="169848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67"/>
          <p:cNvSpPr/>
          <p:nvPr/>
        </p:nvSpPr>
        <p:spPr>
          <a:xfrm>
            <a:off x="3162240" y="169848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68"/>
          <p:cNvSpPr/>
          <p:nvPr/>
        </p:nvSpPr>
        <p:spPr>
          <a:xfrm>
            <a:off x="5775480" y="168444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文本框 69"/>
          <p:cNvSpPr/>
          <p:nvPr/>
        </p:nvSpPr>
        <p:spPr>
          <a:xfrm>
            <a:off x="7050240" y="167652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70"/>
          <p:cNvSpPr/>
          <p:nvPr/>
        </p:nvSpPr>
        <p:spPr>
          <a:xfrm>
            <a:off x="1847880" y="259236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文本框 71"/>
          <p:cNvSpPr/>
          <p:nvPr/>
        </p:nvSpPr>
        <p:spPr>
          <a:xfrm>
            <a:off x="3133800" y="259380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文本框 72"/>
          <p:cNvSpPr/>
          <p:nvPr/>
        </p:nvSpPr>
        <p:spPr>
          <a:xfrm>
            <a:off x="5772240" y="260820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文本框 73"/>
          <p:cNvSpPr/>
          <p:nvPr/>
        </p:nvSpPr>
        <p:spPr>
          <a:xfrm>
            <a:off x="7048440" y="261468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文本框 74"/>
          <p:cNvSpPr/>
          <p:nvPr/>
        </p:nvSpPr>
        <p:spPr>
          <a:xfrm>
            <a:off x="1852560" y="355284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文本框 75"/>
          <p:cNvSpPr/>
          <p:nvPr/>
        </p:nvSpPr>
        <p:spPr>
          <a:xfrm>
            <a:off x="3244680" y="357012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文本框 76"/>
          <p:cNvSpPr/>
          <p:nvPr/>
        </p:nvSpPr>
        <p:spPr>
          <a:xfrm>
            <a:off x="5756400" y="356220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文本框 77"/>
          <p:cNvSpPr/>
          <p:nvPr/>
        </p:nvSpPr>
        <p:spPr>
          <a:xfrm>
            <a:off x="7039080" y="3564000"/>
            <a:ext cx="6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文本框 2"/>
          <p:cNvSpPr/>
          <p:nvPr/>
        </p:nvSpPr>
        <p:spPr>
          <a:xfrm>
            <a:off x="530280" y="923760"/>
            <a:ext cx="8147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年级订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份《中国少年报》，二年级比一年级多订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份，两个年级一共订了多少份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强计划三天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字，第一天写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，第二天写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，还有多少个字没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3"/>
          <p:cNvSpPr/>
          <p:nvPr/>
        </p:nvSpPr>
        <p:spPr>
          <a:xfrm>
            <a:off x="1143000" y="1920960"/>
            <a:ext cx="65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+6+35=7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两个年级一共订了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4"/>
          <p:cNvSpPr/>
          <p:nvPr/>
        </p:nvSpPr>
        <p:spPr>
          <a:xfrm>
            <a:off x="1190520" y="4057560"/>
            <a:ext cx="65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1=3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还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个字没有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9:08Z</dcterms:modified>
  <cp:revision>1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